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media/image12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59BE-8B2F-4BCD-BCE7-018FAEF206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8736-3DA3-4F6B-86E4-680FB08B21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55D-54FF-443C-AD4D-CE3BECA9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188-1147-486E-AFF2-DE6CA48D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FE7-8100-4963-834E-195C5CB0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310-DFA7-4581-A349-BB0C8293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EF07-C792-424E-B848-AACC416D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3957-3FD5-44CF-97E8-FF3C3F07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E6C3-8272-46A1-91DA-57167CB0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87EB-DCC9-4D07-8F01-34E3FE29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8713-3A45-4271-8704-00C1F30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78FB-A07D-456F-A28A-32A6C27F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0EA5-E797-4397-ACB1-3316007A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FAC-7563-4EBB-B95C-BDF04DB8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6192-91AF-4960-A451-A151F12E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294B-1EC9-4CB4-A0C2-E8FC7C2C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501F-F131-4BAB-B0AB-7B4948AC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027B-2119-4EE4-BBCB-18ACA782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A15E-03CD-46A9-99FB-3B92FFC5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AA07-2618-48C3-AB46-492923DA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50E2F-B199-441C-8475-408E948D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DA95-E355-4C15-B790-B7885994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93FA-B7B6-4F07-BA27-0717CC2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320A-C78C-4DD3-A166-F7480B4C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3D5-D42B-4634-8D47-3DD5376A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22F6-16CF-4E8F-A3BC-F6F49422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542A-0B49-4EA0-9775-8F6F4AF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AB65-38BF-4552-A326-6EF5068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CBF7-02FD-4376-A31B-3889C4DF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356D-F61D-4BDA-8660-266B3377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7B0B-DED5-4AAD-A370-8CDED51C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4FB57-73EA-4D4A-9C71-44787FBE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59327-F02F-4F5C-83DF-CC03F4FD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947B-3704-4C49-8C26-8D7DF6C0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C9EE2-EC2E-4CA2-B0A0-5AE27EEC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35F-10AA-43A4-AF79-6B17383B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823E-A63F-477D-B9CC-EFE86787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D6E5-D66A-4D7C-85CD-9AD1C0AC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87C5-2C64-42A7-9A06-4BC20C39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87E9-A401-4DE9-B7FE-2248796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599D-AADC-4242-B3B1-862C84F0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77449-9EE7-41CE-802A-B45CC6A4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09AE-F28C-4D51-88E2-FB4324C9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3115-AC7C-4C70-8A1F-DA08FFEA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6435-1126-4FFA-B7F9-24AC3954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09339-0A3A-4347-8A25-13505AA8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3FB-96CD-46CB-B587-46D9CE6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FCD6-C1CB-44DC-93D7-3972365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0B41-2726-4B53-B997-36351AFA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8A6B-DF95-408C-93BF-BB9E0817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0AC4-B0CF-4938-B9B5-14930D91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66569-58B8-4854-A34D-6E605413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8E840-D066-424B-BBF2-6C639BB0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9210-F74A-42C1-9361-2197FF2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668C-19AB-42D9-A8C8-F53BAFBF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BC478-E9D3-476A-A0D5-6F531CA7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2FDF-E189-4A1C-A0DE-070C8B92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512-B0A1-4EB7-A06A-E8B10760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A5EB4-DC5F-4D9C-ABF5-15B3BDBF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8F7E2-46E6-414D-8A3E-01AFB2DA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F5525-F8AE-43A4-A431-C90B059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C049-B41E-48FD-AE0C-33E47BB7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1C6D-CC12-4D89-BC63-35ECC82C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23CE9-CC8D-4D42-9385-21785031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A9272-D1C5-4D69-BFB1-F75C75F5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B7A7A-10D6-414B-8A94-5CC05EE7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5C60C-AD7C-4CA6-9157-F8367B75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14C5-5C51-492B-BE4F-190A1F3E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ABF-480A-407D-9AFB-46D756C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12D3-0D72-471C-A000-C39CDBA2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53A78-5E3C-4841-AF0D-1960C9B6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6A535-1CAD-4E20-A272-2AC2111A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60102-70DA-4A9F-ACC7-AE131445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13E1F-7BFD-4AF3-842E-31EEA03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A31AA-63C5-4C7C-8FFD-CD3085E3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5678E-4BD7-4D59-9792-E6591D2C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8537-9D85-45B6-8E58-955AD8B0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676A5-4847-4346-865C-FC6FFA2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CC12-DD46-4D67-9DD0-1329CB58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695-1414-4576-A2FA-5B885E8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E1EBC-BC10-4CEE-BF6F-5A5E7F72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2D15D-257A-4ADA-8B66-BD1298E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18C36-7EF9-4E49-B0C5-782536D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DB841-9ADE-4666-8333-CD4CEEF9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DCEC-EB36-48C5-87D9-BBD6AD77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56868-A576-48FD-A860-0310D18D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4892A-E58A-418C-B28D-497EC06F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4BEF-A6A0-4032-A3EE-4A573D0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3583C-8942-45AD-9B33-9C1AE19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D2668-1032-4EA4-AA87-AE78B00D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9FD-D543-4B96-8CA1-93687C3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D8534-7EAB-469A-BE9B-4195C7BD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8C7A6-7E95-45B8-8654-2F55A88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1A59-17C5-4048-BCDE-ACE41753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DBCAD-EC89-416C-A80D-E643B04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F98C8-9D15-4B17-BE1F-8358BE6C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C7F3B-C42E-4875-8293-F2D0A16C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36B0F-086D-4EF4-B56B-B42E291F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3C70-2587-4D8C-B073-2738C5249C8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19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B8D8-7160-4FF6-9968-9C012B94778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5C41-5437-429F-96D1-442E0DBB7B0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1D7A-88A6-49D6-A8E2-A3DD5695275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2128-49CA-4946-9E03-0F5B734CA5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0B32-ABE0-4EBC-A523-05D3C1E28A1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A93C-F7C2-4EAA-961B-2E5887BDE26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5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6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8E19-0646-40F2-A121-11C9F150679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357120" y="500040"/>
            <a:ext cx="80726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Работа с логическими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элементами компьютер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4929120" y="2714760"/>
            <a:ext cx="3960720" cy="3633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j0232133"/>
          <p:cNvPicPr/>
          <p:nvPr/>
        </p:nvPicPr>
        <p:blipFill>
          <a:blip r:embed="rId2"/>
          <a:stretch/>
        </p:blipFill>
        <p:spPr>
          <a:xfrm>
            <a:off x="1357200" y="1928880"/>
            <a:ext cx="28576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785880" y="285840"/>
            <a:ext cx="7843680" cy="1143000"/>
          </a:xfrm>
          <a:prstGeom prst="rect">
            <a:avLst/>
          </a:prstGeom>
          <a:gradFill rotWithShape="0">
            <a:gsLst>
              <a:gs pos="0">
                <a:srgbClr val="c4a4a9"/>
              </a:gs>
              <a:gs pos="100000">
                <a:srgbClr val="eee0e2"/>
              </a:gs>
            </a:gsLst>
            <a:lin ang="16200000"/>
          </a:gradFill>
          <a:ln w="9360">
            <a:solidFill>
              <a:srgbClr val="7d3c4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d1a09"/>
                </a:solidFill>
                <a:latin typeface="Lucida Sans Unicode"/>
              </a:rPr>
              <a:t>Результат проверки </a:t>
            </a:r>
            <a:r>
              <a:rPr b="0" lang="en-US" sz="4400" spc="-1" strike="noStrike">
                <a:solidFill>
                  <a:srgbClr val="6d1a09"/>
                </a:solidFill>
                <a:latin typeface="Lucida Sans Unicode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3" descr=""/>
          <p:cNvPicPr/>
          <p:nvPr/>
        </p:nvPicPr>
        <p:blipFill>
          <a:blip r:embed="rId1"/>
          <a:stretch/>
        </p:blipFill>
        <p:spPr>
          <a:xfrm>
            <a:off x="743040" y="2048040"/>
            <a:ext cx="794376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642960" y="277920"/>
            <a:ext cx="8043840" cy="1143000"/>
          </a:xfrm>
          <a:prstGeom prst="rect">
            <a:avLst/>
          </a:prstGeom>
          <a:gradFill rotWithShape="0">
            <a:gsLst>
              <a:gs pos="0">
                <a:srgbClr val="c4a4a9"/>
              </a:gs>
              <a:gs pos="100000">
                <a:srgbClr val="eee0e2"/>
              </a:gs>
            </a:gsLst>
            <a:lin ang="16200000"/>
          </a:gradFill>
          <a:ln w="9360">
            <a:solidFill>
              <a:srgbClr val="7d3c4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d1a09"/>
                </a:solidFill>
                <a:latin typeface="Lucida Sans Unicode"/>
              </a:rPr>
              <a:t>Общий результат практиче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2" descr=""/>
          <p:cNvPicPr/>
          <p:nvPr/>
        </p:nvPicPr>
        <p:blipFill>
          <a:blip r:embed="rId1"/>
          <a:stretch/>
        </p:blipFill>
        <p:spPr>
          <a:xfrm>
            <a:off x="1384200" y="1474920"/>
            <a:ext cx="6448680" cy="409068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3"/>
          <p:cNvSpPr/>
          <p:nvPr/>
        </p:nvSpPr>
        <p:spPr>
          <a:xfrm>
            <a:off x="357120" y="5572080"/>
            <a:ext cx="8429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хранить итог работы в папке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Логические элементы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 именем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Функция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Показать работу учи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"/>
          <p:cNvSpPr/>
          <p:nvPr/>
        </p:nvSpPr>
        <p:spPr>
          <a:xfrm>
            <a:off x="571680" y="802440"/>
            <a:ext cx="7929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Итог урока: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щиеся познакомились с базовыми логическими элементами компьют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учились стоить логические схемы с помощью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crosoft Wor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крепили навыки проверки истинности логических выражений с помощью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Microsoft Excel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4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2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468360" y="1413000"/>
            <a:ext cx="82296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d1a09"/>
                </a:solidFill>
                <a:latin typeface="Arial"/>
              </a:rPr>
              <a:t>Дана структурная формула. Постройте соответствующую ей функциональную 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611280" y="3284640"/>
            <a:ext cx="82296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d1a09"/>
                </a:solidFill>
                <a:latin typeface="Arial"/>
              </a:rPr>
              <a:t>Определите структурную формулу по заданной функциональной сх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3124080" y="4371840"/>
            <a:ext cx="533520" cy="685800"/>
          </a:xfrm>
          <a:prstGeom prst="rect">
            <a:avLst/>
          </a:prstGeom>
          <a:solidFill>
            <a:srgbClr val="7da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3124080" y="5286240"/>
            <a:ext cx="533520" cy="685800"/>
          </a:xfrm>
          <a:prstGeom prst="rect">
            <a:avLst/>
          </a:prstGeom>
          <a:solidFill>
            <a:srgbClr val="7da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1"/>
          <p:cNvSpPr/>
          <p:nvPr/>
        </p:nvSpPr>
        <p:spPr>
          <a:xfrm>
            <a:off x="2514600" y="467676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2"/>
          <p:cNvSpPr/>
          <p:nvPr/>
        </p:nvSpPr>
        <p:spPr>
          <a:xfrm>
            <a:off x="2514600" y="56674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2119320" y="4484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2119320" y="547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5"/>
          <p:cNvSpPr/>
          <p:nvPr/>
        </p:nvSpPr>
        <p:spPr>
          <a:xfrm>
            <a:off x="3581280" y="460044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6"/>
          <p:cNvSpPr/>
          <p:nvPr/>
        </p:nvSpPr>
        <p:spPr>
          <a:xfrm>
            <a:off x="3581280" y="559116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7"/>
          <p:cNvSpPr/>
          <p:nvPr/>
        </p:nvSpPr>
        <p:spPr>
          <a:xfrm>
            <a:off x="3733920" y="46767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8"/>
          <p:cNvSpPr/>
          <p:nvPr/>
        </p:nvSpPr>
        <p:spPr>
          <a:xfrm>
            <a:off x="3733920" y="5667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5358960" y="4929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8" descr="znakvoprosa"/>
          <p:cNvPicPr/>
          <p:nvPr/>
        </p:nvPicPr>
        <p:blipFill>
          <a:blip r:embed="rId1"/>
          <a:srcRect l="8604" t="3450" r="9698" b="10351"/>
          <a:stretch/>
        </p:blipFill>
        <p:spPr>
          <a:xfrm>
            <a:off x="7358040" y="4572000"/>
            <a:ext cx="1571760" cy="206856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23"/>
          <p:cNvSpPr/>
          <p:nvPr/>
        </p:nvSpPr>
        <p:spPr>
          <a:xfrm>
            <a:off x="1785960" y="242892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F=(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⌐(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27"/>
          <p:cNvSpPr/>
          <p:nvPr/>
        </p:nvSpPr>
        <p:spPr>
          <a:xfrm>
            <a:off x="4786200" y="5143680"/>
            <a:ext cx="500040" cy="14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3929040" y="4500720"/>
            <a:ext cx="857160" cy="1357200"/>
          </a:xfrm>
          <a:prstGeom prst="rect">
            <a:avLst/>
          </a:prstGeom>
          <a:solidFill>
            <a:srgbClr val="7da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Прямоугольник 1" descr=""/>
          <p:cNvPicPr/>
          <p:nvPr/>
        </p:nvPicPr>
        <p:blipFill>
          <a:blip r:embed="rId1"/>
          <a:stretch/>
        </p:blipFill>
        <p:spPr>
          <a:xfrm>
            <a:off x="109440" y="371520"/>
            <a:ext cx="8656560" cy="12445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" descr="C:\Users\Ромик\AppData\Local\Temp\Rar$DI00.786\17.gif"/>
          <p:cNvPicPr/>
          <p:nvPr/>
        </p:nvPicPr>
        <p:blipFill>
          <a:blip r:embed="rId2"/>
          <a:stretch/>
        </p:blipFill>
        <p:spPr>
          <a:xfrm>
            <a:off x="1714680" y="2071800"/>
            <a:ext cx="53686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928800" y="380880"/>
            <a:ext cx="7215120" cy="5214600"/>
          </a:xfrm>
          <a:prstGeom prst="rect">
            <a:avLst/>
          </a:prstGeom>
          <a:noFill/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Lucida Sans Unicode"/>
                <a:ea typeface="Calibri"/>
              </a:rPr>
              <a:t>Цель</a:t>
            </a:r>
            <a:r>
              <a:rPr b="1" lang="ru-RU" sz="2400" spc="-1" strike="noStrike">
                <a:solidFill>
                  <a:srgbClr val="ffff00"/>
                </a:solidFill>
                <a:latin typeface="Lucida Sans Unicode"/>
                <a:ea typeface="Calibri"/>
              </a:rPr>
              <a:t>:</a:t>
            </a:r>
            <a:r>
              <a:rPr b="0" lang="ru-RU" sz="2400" spc="-1" strike="noStrike">
                <a:solidFill>
                  <a:srgbClr val="ffff00"/>
                </a:solidFill>
                <a:latin typeface="Lucida Sans Unicod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Calibri"/>
              </a:rPr>
              <a:t>- Сформировать, развить  и углубить знания и умения по теме «Логические основы построения компьютер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Calibri"/>
              </a:rPr>
              <a:t>Научить стоить логические выражения и выработать навыки проверки истинности логических с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Lucida Sans Unicode"/>
                <a:ea typeface="Calibri"/>
              </a:rPr>
              <a:t>Воспитательные цели</a:t>
            </a:r>
            <a:r>
              <a:rPr b="1" lang="ru-RU" sz="2400" spc="-1" strike="noStrike">
                <a:solidFill>
                  <a:srgbClr val="ffff00"/>
                </a:solidFill>
                <a:latin typeface="Lucida Sans Unicode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Calibri"/>
              </a:rPr>
              <a:t> Воспитать аккуратность в выполнении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Calibri"/>
              </a:rPr>
              <a:t>- Самостоятельного принятия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Calibri"/>
              </a:rPr>
              <a:t>- Привитие информацион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785880" y="42876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Логический элемент</a:t>
            </a:r>
            <a:r>
              <a:rPr b="1" lang="ru-RU" sz="24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Lucida Sans Unicode"/>
              </a:rPr>
              <a:t>компьютера  представляет собой часть электронной схемы, реализующей элементарную логическую фун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785880" y="1928880"/>
            <a:ext cx="75009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Логические элементы</a:t>
            </a:r>
            <a:r>
              <a:rPr b="1" lang="ru-RU" sz="24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Lucida Sans Unicode"/>
              </a:rPr>
              <a:t>компьютера оперируют с сигналами, представляющими собой электрические импуль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Lucida Sans Unicode"/>
              </a:rPr>
              <a:t>Есть импульс – значение сигнала </a:t>
            </a: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Lucida Sans Unicode"/>
              </a:rPr>
              <a:t>, нет    импульса – значение </a:t>
            </a: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1" lang="ru-RU" sz="2400" spc="-1" strike="noStrike">
                <a:solidFill>
                  <a:srgbClr val="ffff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857160" y="450072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Lucida Sans Unicode"/>
              </a:rPr>
              <a:t>На входе логического элемента поступают сигналы - значения аргументов, на выходе появляется сигнал - значение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357120" y="785880"/>
            <a:ext cx="83581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  <a:ea typeface="Aharoni"/>
              </a:rPr>
              <a:t>Базовые логические элементы реализуют три основные логические опер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2d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 Black"/>
                <a:ea typeface="Aharoni"/>
              </a:rPr>
              <a:t>Логический элемент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Aharoni"/>
              </a:rPr>
              <a:t>«И»</a:t>
            </a:r>
            <a:r>
              <a:rPr b="0" lang="ru-RU" sz="2800" spc="-1" strike="noStrike">
                <a:solidFill>
                  <a:srgbClr val="92d050"/>
                </a:solidFill>
                <a:latin typeface="Arial Black"/>
                <a:ea typeface="Aharoni"/>
              </a:rPr>
              <a:t> - логическое умно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2d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 Black"/>
                <a:ea typeface="Aharoni"/>
              </a:rPr>
              <a:t>Логический элемент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Aharoni"/>
              </a:rPr>
              <a:t>«ИЛИ» </a:t>
            </a:r>
            <a:r>
              <a:rPr b="0" lang="ru-RU" sz="2800" spc="-1" strike="noStrike">
                <a:solidFill>
                  <a:srgbClr val="92d050"/>
                </a:solidFill>
                <a:latin typeface="Arial Black"/>
                <a:ea typeface="Aharoni"/>
              </a:rPr>
              <a:t>- логическое сло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2d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 Black"/>
                <a:ea typeface="Aharoni"/>
              </a:rPr>
              <a:t>Логический элемент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Aharoni"/>
              </a:rPr>
              <a:t>«НЕ» </a:t>
            </a:r>
            <a:r>
              <a:rPr b="0" lang="ru-RU" sz="2800" spc="-1" strike="noStrike">
                <a:solidFill>
                  <a:srgbClr val="92d050"/>
                </a:solidFill>
                <a:latin typeface="Arial Black"/>
                <a:ea typeface="Aharoni"/>
              </a:rPr>
              <a:t>- инвер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428760" y="357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Логический элемент</a:t>
            </a: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» -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конъюн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1928880" y="2286000"/>
            <a:ext cx="1447560" cy="2057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/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2"/>
          <p:cNvSpPr/>
          <p:nvPr/>
        </p:nvSpPr>
        <p:spPr>
          <a:xfrm>
            <a:off x="500040" y="2857680"/>
            <a:ext cx="147636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>
            <a:off x="500040" y="3786120"/>
            <a:ext cx="147636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2"/>
          <p:cNvSpPr/>
          <p:nvPr/>
        </p:nvSpPr>
        <p:spPr>
          <a:xfrm>
            <a:off x="3286080" y="3214800"/>
            <a:ext cx="142884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5"/>
          <p:cNvSpPr/>
          <p:nvPr/>
        </p:nvSpPr>
        <p:spPr>
          <a:xfrm>
            <a:off x="434520" y="2357280"/>
            <a:ext cx="14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0,1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5"/>
          <p:cNvSpPr/>
          <p:nvPr/>
        </p:nvSpPr>
        <p:spPr>
          <a:xfrm>
            <a:off x="434520" y="3286080"/>
            <a:ext cx="14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1,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5"/>
          <p:cNvSpPr/>
          <p:nvPr/>
        </p:nvSpPr>
        <p:spPr>
          <a:xfrm>
            <a:off x="3506760" y="27147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/\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000760" y="2214720"/>
          <a:ext cx="3433680" cy="2590560"/>
        </p:xfrm>
        <a:graphic>
          <a:graphicData uri="http://schemas.openxmlformats.org/drawingml/2006/table">
            <a:tbl>
              <a:tblPr/>
              <a:tblGrid>
                <a:gridCol w="1144440"/>
                <a:gridCol w="1144440"/>
                <a:gridCol w="114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˄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Text Box 35"/>
          <p:cNvSpPr/>
          <p:nvPr/>
        </p:nvSpPr>
        <p:spPr>
          <a:xfrm>
            <a:off x="3504240" y="32148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0,1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142920" y="35712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Логический элемент</a:t>
            </a: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ЛИ» - дизъюнктор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1"/>
          <p:cNvSpPr/>
          <p:nvPr/>
        </p:nvSpPr>
        <p:spPr>
          <a:xfrm>
            <a:off x="1928880" y="2286000"/>
            <a:ext cx="1447560" cy="2057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\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5"/>
          <p:cNvSpPr/>
          <p:nvPr/>
        </p:nvSpPr>
        <p:spPr>
          <a:xfrm>
            <a:off x="434520" y="2357280"/>
            <a:ext cx="14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0,1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5"/>
          <p:cNvSpPr/>
          <p:nvPr/>
        </p:nvSpPr>
        <p:spPr>
          <a:xfrm>
            <a:off x="434520" y="3286080"/>
            <a:ext cx="14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1,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00040" y="3786120"/>
            <a:ext cx="147636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2"/>
          <p:cNvSpPr/>
          <p:nvPr/>
        </p:nvSpPr>
        <p:spPr>
          <a:xfrm>
            <a:off x="500040" y="2857680"/>
            <a:ext cx="147636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3504240" y="3214800"/>
            <a:ext cx="11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1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5"/>
          <p:cNvSpPr/>
          <p:nvPr/>
        </p:nvSpPr>
        <p:spPr>
          <a:xfrm>
            <a:off x="3506760" y="2714760"/>
            <a:ext cx="10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\/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2"/>
          <p:cNvSpPr/>
          <p:nvPr/>
        </p:nvSpPr>
        <p:spPr>
          <a:xfrm>
            <a:off x="3286080" y="3214800"/>
            <a:ext cx="142884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4929120" y="2143080"/>
          <a:ext cx="3400560" cy="2590920"/>
        </p:xfrm>
        <a:graphic>
          <a:graphicData uri="http://schemas.openxmlformats.org/drawingml/2006/table">
            <a:tbl>
              <a:tblPr/>
              <a:tblGrid>
                <a:gridCol w="1133640"/>
                <a:gridCol w="1133280"/>
                <a:gridCol w="113364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B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1"/>
          <p:cNvSpPr/>
          <p:nvPr/>
        </p:nvSpPr>
        <p:spPr>
          <a:xfrm>
            <a:off x="428760" y="357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Логический элемент</a:t>
            </a: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» -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инвер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1"/>
          <p:cNvSpPr/>
          <p:nvPr/>
        </p:nvSpPr>
        <p:spPr>
          <a:xfrm>
            <a:off x="1928880" y="2357280"/>
            <a:ext cx="1447560" cy="1500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2"/>
          <p:cNvSpPr/>
          <p:nvPr/>
        </p:nvSpPr>
        <p:spPr>
          <a:xfrm>
            <a:off x="928800" y="3071880"/>
            <a:ext cx="104760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2"/>
          <p:cNvSpPr/>
          <p:nvPr/>
        </p:nvSpPr>
        <p:spPr>
          <a:xfrm>
            <a:off x="3357720" y="3071880"/>
            <a:ext cx="114300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5"/>
          <p:cNvSpPr/>
          <p:nvPr/>
        </p:nvSpPr>
        <p:spPr>
          <a:xfrm>
            <a:off x="933840" y="2571840"/>
            <a:ext cx="10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5"/>
          <p:cNvSpPr/>
          <p:nvPr/>
        </p:nvSpPr>
        <p:spPr>
          <a:xfrm>
            <a:off x="3505320" y="2571840"/>
            <a:ext cx="10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072040" y="2071800"/>
          <a:ext cx="2514600" cy="21841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Овал 9"/>
          <p:cNvSpPr/>
          <p:nvPr/>
        </p:nvSpPr>
        <p:spPr>
          <a:xfrm>
            <a:off x="3286080" y="2928960"/>
            <a:ext cx="214200" cy="21420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4760" y="215640"/>
            <a:ext cx="87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Дополнительные логические эле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"/>
          <p:cNvSpPr/>
          <p:nvPr/>
        </p:nvSpPr>
        <p:spPr>
          <a:xfrm>
            <a:off x="142920" y="8571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Логический элементы</a:t>
            </a: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-НЕ» - «ИЛИ-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1"/>
          <p:cNvSpPr/>
          <p:nvPr/>
        </p:nvSpPr>
        <p:spPr>
          <a:xfrm>
            <a:off x="1571760" y="1714680"/>
            <a:ext cx="928440" cy="12855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/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5"/>
          <p:cNvSpPr/>
          <p:nvPr/>
        </p:nvSpPr>
        <p:spPr>
          <a:xfrm>
            <a:off x="290880" y="16430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0,1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2"/>
          <p:cNvSpPr/>
          <p:nvPr/>
        </p:nvSpPr>
        <p:spPr>
          <a:xfrm>
            <a:off x="357120" y="2000160"/>
            <a:ext cx="1285920" cy="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5"/>
          <p:cNvSpPr/>
          <p:nvPr/>
        </p:nvSpPr>
        <p:spPr>
          <a:xfrm>
            <a:off x="2503800" y="192888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¬(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/\ B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5"/>
          <p:cNvSpPr/>
          <p:nvPr/>
        </p:nvSpPr>
        <p:spPr>
          <a:xfrm>
            <a:off x="2293560" y="228600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12"/>
          <p:cNvSpPr/>
          <p:nvPr/>
        </p:nvSpPr>
        <p:spPr>
          <a:xfrm>
            <a:off x="2428920" y="2214720"/>
            <a:ext cx="142920" cy="14256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071960" y="1643040"/>
          <a:ext cx="3929040" cy="20718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</a:tblGrid>
              <a:tr h="41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¬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˄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B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Line 32"/>
          <p:cNvSpPr/>
          <p:nvPr/>
        </p:nvSpPr>
        <p:spPr>
          <a:xfrm>
            <a:off x="357120" y="2714760"/>
            <a:ext cx="1285920" cy="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290520" y="2357280"/>
            <a:ext cx="13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2"/>
          <p:cNvSpPr/>
          <p:nvPr/>
        </p:nvSpPr>
        <p:spPr>
          <a:xfrm>
            <a:off x="2500200" y="2286000"/>
            <a:ext cx="1071720" cy="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071960" y="4071960"/>
          <a:ext cx="3929040" cy="22860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¬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˅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Rectangle 31"/>
          <p:cNvSpPr/>
          <p:nvPr/>
        </p:nvSpPr>
        <p:spPr>
          <a:xfrm>
            <a:off x="1643040" y="4071960"/>
            <a:ext cx="928800" cy="1285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\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2"/>
          <p:cNvSpPr/>
          <p:nvPr/>
        </p:nvSpPr>
        <p:spPr>
          <a:xfrm>
            <a:off x="428760" y="4500720"/>
            <a:ext cx="1285920" cy="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2"/>
          <p:cNvSpPr/>
          <p:nvPr/>
        </p:nvSpPr>
        <p:spPr>
          <a:xfrm>
            <a:off x="428760" y="5072040"/>
            <a:ext cx="1285920" cy="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5"/>
          <p:cNvSpPr/>
          <p:nvPr/>
        </p:nvSpPr>
        <p:spPr>
          <a:xfrm>
            <a:off x="362520" y="41432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0,1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362160" y="4714920"/>
            <a:ext cx="13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0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2"/>
          <p:cNvSpPr/>
          <p:nvPr/>
        </p:nvSpPr>
        <p:spPr>
          <a:xfrm>
            <a:off x="2428920" y="4714920"/>
            <a:ext cx="1285920" cy="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5"/>
          <p:cNvSpPr/>
          <p:nvPr/>
        </p:nvSpPr>
        <p:spPr>
          <a:xfrm>
            <a:off x="2575440" y="428616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¬(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\/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5"/>
          <p:cNvSpPr/>
          <p:nvPr/>
        </p:nvSpPr>
        <p:spPr>
          <a:xfrm>
            <a:off x="2364840" y="464328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2"/>
          <p:cNvSpPr/>
          <p:nvPr/>
        </p:nvSpPr>
        <p:spPr>
          <a:xfrm>
            <a:off x="2500200" y="4643280"/>
            <a:ext cx="142920" cy="14292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500040" y="21420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актическая работа на 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142920" y="861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«Работа с логическими элементами компьют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рыть текстовый процессор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Microsoft Word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хему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определите логическую формулу по заданной функциональной сх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1928880" y="2643120"/>
            <a:ext cx="914400" cy="12956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3714840" y="3929040"/>
            <a:ext cx="914400" cy="990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5715000" y="2643120"/>
            <a:ext cx="914400" cy="19814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4"/>
          <p:cNvSpPr/>
          <p:nvPr/>
        </p:nvSpPr>
        <p:spPr>
          <a:xfrm>
            <a:off x="1143000" y="2857680"/>
            <a:ext cx="785880" cy="0"/>
          </a:xfrm>
          <a:prstGeom prst="line">
            <a:avLst/>
          </a:prstGeom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071720" y="4429080"/>
            <a:ext cx="2652480" cy="0"/>
          </a:xfrm>
          <a:prstGeom prst="line">
            <a:avLst/>
          </a:prstGeom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6"/>
          <p:cNvSpPr/>
          <p:nvPr/>
        </p:nvSpPr>
        <p:spPr>
          <a:xfrm flipV="1">
            <a:off x="1571760" y="3500280"/>
            <a:ext cx="0" cy="914400"/>
          </a:xfrm>
          <a:prstGeom prst="line">
            <a:avLst/>
          </a:prstGeom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7"/>
          <p:cNvSpPr/>
          <p:nvPr/>
        </p:nvSpPr>
        <p:spPr>
          <a:xfrm>
            <a:off x="1571760" y="3500280"/>
            <a:ext cx="380880" cy="0"/>
          </a:xfrm>
          <a:prstGeom prst="line">
            <a:avLst/>
          </a:prstGeom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2786040" y="3214800"/>
            <a:ext cx="2971800" cy="0"/>
          </a:xfrm>
          <a:prstGeom prst="line">
            <a:avLst/>
          </a:prstGeom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>
            <a:off x="4643280" y="4429080"/>
            <a:ext cx="1219320" cy="0"/>
          </a:xfrm>
          <a:prstGeom prst="line">
            <a:avLst/>
          </a:prstGeom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20"/>
          <p:cNvSpPr/>
          <p:nvPr/>
        </p:nvSpPr>
        <p:spPr>
          <a:xfrm>
            <a:off x="4572000" y="4357800"/>
            <a:ext cx="152280" cy="15228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1"/>
          <p:cNvSpPr/>
          <p:nvPr/>
        </p:nvSpPr>
        <p:spPr>
          <a:xfrm>
            <a:off x="1144800" y="2428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1073520" y="4000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3"/>
          <p:cNvSpPr/>
          <p:nvPr/>
        </p:nvSpPr>
        <p:spPr>
          <a:xfrm>
            <a:off x="6717240" y="3071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6643800" y="3643200"/>
            <a:ext cx="761760" cy="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7858080" y="2286000"/>
          <a:ext cx="1013040" cy="1828800"/>
        </p:xfrm>
        <a:graphic>
          <a:graphicData uri="http://schemas.openxmlformats.org/drawingml/2006/table">
            <a:tbl>
              <a:tblPr/>
              <a:tblGrid>
                <a:gridCol w="362160"/>
                <a:gridCol w="314280"/>
                <a:gridCol w="336600"/>
              </a:tblGrid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76" name="AutoShape 43"/>
          <p:cNvCxnSpPr/>
          <p:nvPr/>
        </p:nvCxnSpPr>
        <p:spPr>
          <a:xfrm>
            <a:off x="-4448160" y="151920"/>
            <a:ext cx="1696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7" name="AutoShape 44"/>
          <p:cNvCxnSpPr/>
          <p:nvPr/>
        </p:nvCxnSpPr>
        <p:spPr>
          <a:xfrm>
            <a:off x="-2247840" y="151920"/>
            <a:ext cx="1048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78" name="Oval 42"/>
          <p:cNvSpPr/>
          <p:nvPr/>
        </p:nvSpPr>
        <p:spPr>
          <a:xfrm>
            <a:off x="-2305080" y="55440"/>
            <a:ext cx="125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AutoShape 49"/>
          <p:cNvCxnSpPr/>
          <p:nvPr/>
        </p:nvCxnSpPr>
        <p:spPr>
          <a:xfrm>
            <a:off x="3585960" y="558360"/>
            <a:ext cx="238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Rectangle 51"/>
          <p:cNvSpPr/>
          <p:nvPr/>
        </p:nvSpPr>
        <p:spPr>
          <a:xfrm>
            <a:off x="142920" y="5081040"/>
            <a:ext cx="879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хранить работу на рабочем столе под именем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«Схема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,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папке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«Логические элементы»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крыть электронную таблицу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Microsoft Excel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ставить полученную схему в электронную таблицу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Excel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С помощью ЭТ проверить истинность полученной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функ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50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6786720" y="4429080"/>
            <a:ext cx="2071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12:00Z</dcterms:created>
  <dc:creator>Ромик</dc:creator>
  <dc:description/>
  <dc:language>en-US</dc:language>
  <cp:lastModifiedBy>312-2</cp:lastModifiedBy>
  <dcterms:modified xsi:type="dcterms:W3CDTF">2015-04-22T06:40:49Z</dcterms:modified>
  <cp:revision>18</cp:revision>
  <dc:subject/>
  <dc:title>Слайд 1</dc:title>
</cp:coreProperties>
</file>